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B242-8AC3-4707-A032-FDE345D63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4379-5810-4AAE-AB31-8F531D59F9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6162A-1228-4103-B6C1-FC89F66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1E597-419E-44F0-A50D-5A660C21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16728-B387-407D-A8B4-9F876978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29FB4-DACC-4768-8AF8-C1B7A18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00F94-4F4B-478F-BBD4-FA85D10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6A509-BA28-453D-A177-39A4E84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51679-4DF8-4915-835C-2B4E2292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6F7BE-9C92-4FFC-951D-77F9D846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9F763-F854-48F2-BF70-218241CB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B1FBD-45C3-41B6-833A-7F7F2F8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8776-0C4E-4059-8F47-D601EE320A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1ECFF-8A40-428E-A486-56B2825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81E2D-718F-44DF-9A72-E3AE731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909246-21A9-43D0-96F8-61D2E05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B4661-81FC-4171-B69C-29DEDD70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C7F43-B71C-45C3-8011-51384CCC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C60E0-5EE5-4477-B82E-39AE39F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5418F-2F4A-4D97-B40B-F6DE5C8F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A82C1-40D4-417F-BF42-E9F53C2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51061-EBFB-4398-ABCF-AE34D1A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8F18D-9FCA-4266-9A71-066DD3B1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3085-BD37-4D2A-90F2-886D4293D11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1C0F6-96FE-4D4A-B403-2951B08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5CC84-0A56-4978-8043-A917F687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CFD5DF-1C3F-42C3-A3DC-BCA3609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4FA48F-1109-426F-A7BA-4808C17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841D56-3FD4-4727-B2E8-701240F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B58BF8-E5B7-48AC-83B7-B3FD4EAE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5DE67-9729-4CD1-8DB4-DA71A30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1D368-6A01-444A-9867-C0553CE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6AE5E3-9E2D-48F1-9499-EE6D745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05D936-A10E-4ED0-9B43-534979D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8124-0C25-4D2C-B5B4-72429CF39A9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47590-03A3-42B3-B8E2-FF6ECF77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E101F0-2AC9-4B74-8D5A-90E8FF6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86C404-EB50-46F3-9385-7390615D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E0AD1-C08E-4985-A89D-1E8D10FE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535C21-A6C1-4A55-82F6-D818D9F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72918-9551-48D4-B632-9A0C3981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7E089D-5587-4FA0-962C-4EF3733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02872C-AF3C-41E4-AC24-F0EAF18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44846-68F4-4438-834D-DCAF1D9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53FD8F-A8E1-4C43-AE5C-C62C9E3D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01E1-623B-4032-A75E-B79B1BDC8F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C3FBE9-9B20-4895-B519-1E9FDDB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80B40D-3518-475A-9ED3-C70106D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988403-1AA4-4D99-ADC5-BDB8585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5E6A32-9AB5-4F56-B2FA-A7B3ABB5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77CDD-8520-4154-A343-3AB274D0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C03BF-1DE0-4C63-BCD7-A79C66B5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634789-07B0-4563-A43A-3EB732A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761024-6106-481E-8BD7-B92B0DA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CC600A-BF40-4DD6-8848-7CE23EB7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BB54E7-EBD0-409A-85D3-33580AF3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7F59-E6EF-4221-B0F2-7589F10DFC7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018234-8D66-447F-A648-CF0CB15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F96576-C94C-46FD-A0A0-951508B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85D48B-A1FB-4F51-A74B-81C7526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9BF4D1-8F92-44A4-BEEA-916D556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0C8A98-DF58-4ECE-A93C-64303D9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9526A-47A8-4E46-A466-196A5F4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51EFA-6CDF-4F0F-8ED5-070647B8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5956A-7A07-40C7-9A41-FEDD022A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51A3CB-AAFC-4B25-82A9-76D54DB8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FE971D-CA15-433E-8B79-BF16023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D2F0-268E-4E80-9ECC-1AF3FDD5FFA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6C1C39-E626-4F45-93B2-E215810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17530D-67CA-4BAA-BC69-2C0D1E1E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94A4C0-46A8-438C-B466-1AAE766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5A706E-7FCA-4364-A83C-276622F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BDE928-0483-45C3-AA2F-E42947DF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35515-05BF-4944-BE9B-C1E3B99F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4223A0-0CAE-41F2-9B72-D9E1CD9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B36C3-E002-4E3A-82BE-436110E7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EFAA10-6B72-4E9F-8E7D-E48B72CC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D5F3-39F3-40FC-9466-6E74D639CD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4425-7758-4BBA-9FD2-3DE90CF5B1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DEE4-DEDB-433C-AF15-A870A39CC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917D-6EA3-48DD-8487-6D1563647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DDE9-1E29-424A-B666-0B15EF5D5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AA5A-B2A8-4B62-A035-36136AAB28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9652-7A6A-4352-819B-B62956C92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87D7-94C9-473F-A5AB-B995A1886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549C-5D40-4B8F-8653-12239C214C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585F-7C3B-4A78-B032-D8BCDC05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1C554-4719-4AE2-993D-6938E63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BF5CF-6C54-427B-82AE-9ACA6D2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7B045-66A3-464E-AC66-59328AC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BDC6-4265-4176-91EF-93BAC9DB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972E-326A-4634-B4B4-542F7EE82D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6C4C7-EF0E-4B45-97FE-647D16C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16628-E6F3-4B1E-BB49-511FDB1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90B40-DC7A-4853-BBDC-9105EA6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20F1-895A-4CF0-BED4-78C8819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2AB13-08A4-4505-A607-908AF449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A2AB3-A61C-4BFB-9603-DA64BC38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17E8A-C586-496B-AF02-DDEEB259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C1A91-499B-44DD-8209-6CB9D2A3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6C05E-3062-4CC9-BAC5-E7AC57B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3B0B9-80D4-48AF-92DF-4EC2A61B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1780-9490-45C9-8FB7-A426ECF471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87301-1767-4507-BFA8-53921E31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02021-ED3A-4A9A-81B5-52BE10C8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093FB-EA98-42DC-8AA5-483EF822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C6896-6284-4C03-85C9-D7DD9D5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A7595-DC5D-409D-B3A4-42C60C3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35134-00C8-43AE-89E2-AC8C0F9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A3B1D-2F60-4CA5-B85E-372E43A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1C68B-1D30-41FF-9E7A-7E6AB049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F1DE1-0F9C-4EA1-B43A-24C206A8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8C955-C9C9-4986-9B2A-9DE30BDE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7586-1ADE-4ACD-B92E-BF94A9B4F5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9518C-E1BE-4825-BF00-23ED185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1A428-180D-45BC-BE45-C2DE6B8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7A5E5-ABC2-4899-BDE2-892BEECA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B927A-7643-4BCF-8D94-A653B34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78025-9E64-4306-BC00-F26D2F97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11B1A-4A24-4DAD-82A5-21CADC9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5F483-F95F-4D1F-9803-73988AE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0B2B4-B21D-47B7-8011-37923F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43DEB-3D18-4878-A8DF-35C42E8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9C72A-6FD1-41AF-8EC3-99B5C7F6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7FA2-51BA-4AE9-9B61-04D8663246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6794E-CD47-4518-8782-9FD196B2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8B5BA-38CC-4FB2-B6DE-90C0EE48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F67B0-E130-4FAB-9CD7-5D1297A7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6014F-B4F6-4D5C-A99B-158CA4B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1EABA-A5B7-43DD-9ED3-1C527DA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E911A-EDD0-409F-855F-2AB7E8C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98220-E3D3-412E-BBC5-8581BE3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99979-3A91-4715-8A8D-BF641F8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4CAA6-581A-4D95-A8BA-043EF17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A982C-8503-430F-8536-35A6531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DC6B-8EBC-48CC-870F-3AEBBCB635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B12A1-7911-45C3-8162-026996C3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57CC4-0EFC-4817-A39A-2B368916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36162-CB4E-4F97-B501-F73AB95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C0832-B8F0-4A96-B36A-98F2F075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C328A-B41D-43DD-8564-6F2FA81D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D30E8-99F4-4F0D-8089-001DD4A5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D1422-255C-44F3-81E1-703588F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BE714-397A-4789-B12F-EF46D98F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4D511-5BE1-4D2E-B8C9-94B43BF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7F975-C402-415C-99A5-4B4E84E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83B7-CED1-4B2E-828C-262169B989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1C988-1799-4538-8B7C-44DDA6D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1FBF7-D6C1-42D9-B966-40EA306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A7400-F9CB-445A-B691-ECC2F2DB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606EE-C64F-432A-BA61-3ECCF9DA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3DA95-1937-4181-999E-6722CF24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FB2AD-E213-477D-828A-4867476C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51118-A3F8-4C33-9B60-D14573F9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2C6DE-8732-4358-BA9B-B63411FF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DCF29-890E-4C58-AF3A-6C0522E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CCB01-B52B-4E63-90EE-B5AA71B9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83D5-B081-46C0-A889-0492581B64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0D28F-78B8-49AD-B737-A227D941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F8763-2E8F-4AD5-A723-5F5A76D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DFC6F-1CD9-480C-9BE7-DCDA68C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3274E-25F6-4E2F-9794-263D6C0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71E71-AA9E-4DE4-8633-E629613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5C93C-C0BE-4148-BD7E-65B7EE91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9A3FA-F489-46CD-BB43-14ABDF2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88568-561B-43A8-B1F5-A7AEF3CA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C124A-6CC9-4FF0-BD92-82C707D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27FAC2-EDF7-43A2-A748-F543ED4B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C9AA-0AA3-4709-ADE1-E8B632A9C2D1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021-278A-4F7B-AFE7-88B9A3BC79E5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3474-81EB-4EBF-8C71-72931F986DFB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1E8-6DA8-4F6D-9393-B804D4C12C90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8DB-5B0B-4816-9925-B98E491C53FB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DB08-97D2-4DF3-82AC-ED7DD47456D2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120" descr="image.pn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5121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472-33B7-40E9-B8B3-8E94A705D584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CE5-AA13-4D03-8890-ABB20FAA8DC0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7E32-98D0-4AF8-8C16-C18D2797091E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14A-C333-4179-A2A6-5926338E57C2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D48-0EBA-4F55-8D47-2BE9BE0A0854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370-B698-4ED3-BDE2-B7FE50E5C802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842-654B-475A-B041-8A3E3A588DC9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93A-34C1-4F75-B75E-BFF585C26E57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>
              <a:gd name="textAreaLeft" fmla="*/ 0 w 9200880"/>
              <a:gd name="textAreaRight" fmla="*/ 9201240 w 920088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574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任意多边形 7171"/>
          <p:cNvSpPr/>
          <p:nvPr/>
        </p:nvSpPr>
        <p:spPr>
          <a:xfrm>
            <a:off x="0" y="4264200"/>
            <a:ext cx="9201240" cy="1263600"/>
          </a:xfrm>
          <a:custGeom>
            <a:avLst/>
            <a:gdLst>
              <a:gd name="textAreaLeft" fmla="*/ 0 w 9201240"/>
              <a:gd name="textAreaRight" fmla="*/ 9201600 w 92012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8064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578" name="矩形 7174"/>
          <p:cNvSpPr/>
          <p:nvPr/>
        </p:nvSpPr>
        <p:spPr>
          <a:xfrm>
            <a:off x="2305080" y="1898640"/>
            <a:ext cx="421956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 生 端 操 作 指 南</a:t>
            </a:r>
            <a:r>
              <a:rPr b="1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59407"/>
          <p:cNvSpPr/>
          <p:nvPr/>
        </p:nvSpPr>
        <p:spPr>
          <a:xfrm>
            <a:off x="12600" y="5040"/>
            <a:ext cx="38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评价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实习过程、老师的评价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6"/>
          <p:cNvSpPr/>
          <p:nvPr/>
        </p:nvSpPr>
        <p:spPr>
          <a:xfrm>
            <a:off x="142920" y="343080"/>
            <a:ext cx="838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习评价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成长→实习任务→实习评价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图片 5" descr=""/>
          <p:cNvPicPr/>
          <p:nvPr/>
        </p:nvPicPr>
        <p:blipFill>
          <a:blip r:embed="rId1"/>
          <a:stretch/>
        </p:blipFill>
        <p:spPr>
          <a:xfrm>
            <a:off x="4695840" y="1050840"/>
            <a:ext cx="1908000" cy="33958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" descr=""/>
          <p:cNvPicPr/>
          <p:nvPr/>
        </p:nvPicPr>
        <p:blipFill>
          <a:blip r:embed="rId2"/>
          <a:stretch/>
        </p:blipFill>
        <p:spPr>
          <a:xfrm>
            <a:off x="1962000" y="906480"/>
            <a:ext cx="16606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12" descr=""/>
          <p:cNvPicPr/>
          <p:nvPr/>
        </p:nvPicPr>
        <p:blipFill>
          <a:blip r:embed="rId1"/>
          <a:stretch/>
        </p:blipFill>
        <p:spPr>
          <a:xfrm>
            <a:off x="6597720" y="592200"/>
            <a:ext cx="1868400" cy="400212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11"/>
          <p:cNvSpPr/>
          <p:nvPr/>
        </p:nvSpPr>
        <p:spPr>
          <a:xfrm>
            <a:off x="345960" y="4481640"/>
            <a:ext cx="202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实习模块客服中心入口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11"/>
          <p:cNvSpPr/>
          <p:nvPr/>
        </p:nvSpPr>
        <p:spPr>
          <a:xfrm>
            <a:off x="3395520" y="4551480"/>
            <a:ext cx="202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我的</a:t>
            </a:r>
            <a:r>
              <a:rPr b="0" lang="en-US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客服与反馈入口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11"/>
          <p:cNvSpPr/>
          <p:nvPr/>
        </p:nvSpPr>
        <p:spPr>
          <a:xfrm>
            <a:off x="7170840" y="4551480"/>
            <a:ext cx="95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客服中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直接箭头连接符 7" descr=""/>
          <p:cNvPicPr/>
          <p:nvPr/>
        </p:nvPicPr>
        <p:blipFill>
          <a:blip r:embed="rId2"/>
          <a:stretch/>
        </p:blipFill>
        <p:spPr>
          <a:xfrm>
            <a:off x="6188040" y="1536840"/>
            <a:ext cx="646200" cy="468000"/>
          </a:xfrm>
          <a:prstGeom prst="rect">
            <a:avLst/>
          </a:prstGeom>
          <a:ln w="0">
            <a:noFill/>
          </a:ln>
        </p:spPr>
      </p:pic>
      <p:sp>
        <p:nvSpPr>
          <p:cNvPr id="643" name="文本框 9"/>
          <p:cNvSpPr/>
          <p:nvPr/>
        </p:nvSpPr>
        <p:spPr>
          <a:xfrm>
            <a:off x="5707080" y="110808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快捷入口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直接箭头连接符 8" descr=""/>
          <p:cNvPicPr/>
          <p:nvPr/>
        </p:nvPicPr>
        <p:blipFill>
          <a:blip r:embed="rId3"/>
          <a:stretch/>
        </p:blipFill>
        <p:spPr>
          <a:xfrm>
            <a:off x="6181560" y="1981080"/>
            <a:ext cx="652680" cy="126216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10"/>
          <p:cNvSpPr/>
          <p:nvPr/>
        </p:nvSpPr>
        <p:spPr>
          <a:xfrm>
            <a:off x="5762520" y="27939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常见问题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帮助中心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4"/>
          <a:stretch/>
        </p:blipFill>
        <p:spPr>
          <a:xfrm>
            <a:off x="527040" y="592200"/>
            <a:ext cx="1662120" cy="3736800"/>
          </a:xfrm>
          <a:prstGeom prst="rect">
            <a:avLst/>
          </a:prstGeom>
          <a:ln w="0">
            <a:noFill/>
          </a:ln>
        </p:spPr>
      </p:pic>
      <p:pic>
        <p:nvPicPr>
          <p:cNvPr id="648" name="直接箭头连接符 11" descr=""/>
          <p:cNvPicPr/>
          <p:nvPr/>
        </p:nvPicPr>
        <p:blipFill>
          <a:blip r:embed="rId5"/>
          <a:stretch/>
        </p:blipFill>
        <p:spPr>
          <a:xfrm>
            <a:off x="1871640" y="1536840"/>
            <a:ext cx="828720" cy="69372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13" descr=""/>
          <p:cNvPicPr/>
          <p:nvPr/>
        </p:nvPicPr>
        <p:blipFill>
          <a:blip r:embed="rId6"/>
          <a:stretch/>
        </p:blipFill>
        <p:spPr>
          <a:xfrm>
            <a:off x="3402000" y="592200"/>
            <a:ext cx="1854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8196"/>
          <p:cNvSpPr/>
          <p:nvPr/>
        </p:nvSpPr>
        <p:spPr>
          <a:xfrm>
            <a:off x="3165480" y="2536920"/>
            <a:ext cx="3643200" cy="40464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8197"/>
          <p:cNvSpPr/>
          <p:nvPr/>
        </p:nvSpPr>
        <p:spPr>
          <a:xfrm>
            <a:off x="3743280" y="260280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8200"/>
          <p:cNvSpPr/>
          <p:nvPr/>
        </p:nvSpPr>
        <p:spPr>
          <a:xfrm>
            <a:off x="527040" y="229716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8198"/>
          <p:cNvSpPr/>
          <p:nvPr/>
        </p:nvSpPr>
        <p:spPr>
          <a:xfrm>
            <a:off x="3165480" y="1684440"/>
            <a:ext cx="3645000" cy="404640"/>
          </a:xfrm>
          <a:prstGeom prst="pie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8196"/>
          <p:cNvSpPr/>
          <p:nvPr/>
        </p:nvSpPr>
        <p:spPr>
          <a:xfrm>
            <a:off x="3159000" y="3375000"/>
            <a:ext cx="3643560" cy="40500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8197"/>
          <p:cNvSpPr/>
          <p:nvPr/>
        </p:nvSpPr>
        <p:spPr>
          <a:xfrm>
            <a:off x="3817800" y="34398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3"/>
          <p:cNvSpPr/>
          <p:nvPr/>
        </p:nvSpPr>
        <p:spPr>
          <a:xfrm>
            <a:off x="3267000" y="1627200"/>
            <a:ext cx="41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实习报告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"/>
          <p:cNvSpPr/>
          <p:nvPr/>
        </p:nvSpPr>
        <p:spPr>
          <a:xfrm>
            <a:off x="166680" y="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操作指南</a:t>
            </a:r>
            <a:r>
              <a:rPr b="1" lang="en-US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PC</a:t>
            </a:r>
            <a:r>
              <a:rPr b="1" lang="zh-CN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网页端独有功能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文本框 1" descr=""/>
          <p:cNvPicPr/>
          <p:nvPr/>
        </p:nvPicPr>
        <p:blipFill>
          <a:blip r:embed="rId1"/>
          <a:stretch/>
        </p:blipFill>
        <p:spPr>
          <a:xfrm>
            <a:off x="1584360" y="3060720"/>
            <a:ext cx="567036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2" descr=""/>
          <p:cNvPicPr/>
          <p:nvPr/>
        </p:nvPicPr>
        <p:blipFill>
          <a:blip r:embed="rId1"/>
          <a:stretch/>
        </p:blipFill>
        <p:spPr>
          <a:xfrm>
            <a:off x="628560" y="2790720"/>
            <a:ext cx="7886880" cy="216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60" name="图片 1" descr=""/>
          <p:cNvPicPr/>
          <p:nvPr/>
        </p:nvPicPr>
        <p:blipFill>
          <a:blip r:embed="rId2"/>
          <a:stretch/>
        </p:blipFill>
        <p:spPr>
          <a:xfrm>
            <a:off x="628560" y="941400"/>
            <a:ext cx="7770960" cy="215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61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操作指南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提交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14"/>
          <p:cNvSpPr/>
          <p:nvPr/>
        </p:nvSpPr>
        <p:spPr>
          <a:xfrm>
            <a:off x="1555920" y="2185920"/>
            <a:ext cx="110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实习报告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12"/>
          <p:cNvSpPr/>
          <p:nvPr/>
        </p:nvSpPr>
        <p:spPr>
          <a:xfrm>
            <a:off x="6713640" y="2860560"/>
            <a:ext cx="1466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下载报告模板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5305320" y="4467240"/>
            <a:ext cx="2343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模板内写完 报告</a:t>
            </a:r>
            <a:r>
              <a:rPr b="1" lang="en-US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上传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直接箭头连接符 16" descr=""/>
          <p:cNvPicPr/>
          <p:nvPr/>
        </p:nvPicPr>
        <p:blipFill>
          <a:blip r:embed="rId3"/>
          <a:stretch/>
        </p:blipFill>
        <p:spPr>
          <a:xfrm>
            <a:off x="7547040" y="2273400"/>
            <a:ext cx="573120" cy="695160"/>
          </a:xfrm>
          <a:prstGeom prst="rect">
            <a:avLst/>
          </a:prstGeom>
          <a:ln w="0">
            <a:noFill/>
          </a:ln>
        </p:spPr>
      </p:pic>
      <p:pic>
        <p:nvPicPr>
          <p:cNvPr id="666" name="直接箭头连接符 3" descr=""/>
          <p:cNvPicPr/>
          <p:nvPr/>
        </p:nvPicPr>
        <p:blipFill>
          <a:blip r:embed="rId4"/>
          <a:stretch/>
        </p:blipFill>
        <p:spPr>
          <a:xfrm>
            <a:off x="1090440" y="2584440"/>
            <a:ext cx="689040" cy="596880"/>
          </a:xfrm>
          <a:prstGeom prst="rect">
            <a:avLst/>
          </a:prstGeom>
          <a:ln w="0">
            <a:noFill/>
          </a:ln>
        </p:spPr>
      </p:pic>
      <p:pic>
        <p:nvPicPr>
          <p:cNvPr id="667" name="直接箭头连接符 4" descr=""/>
          <p:cNvPicPr/>
          <p:nvPr/>
        </p:nvPicPr>
        <p:blipFill>
          <a:blip r:embed="rId5"/>
          <a:stretch/>
        </p:blipFill>
        <p:spPr>
          <a:xfrm>
            <a:off x="5467320" y="414504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5"/>
          <p:cNvSpPr/>
          <p:nvPr/>
        </p:nvSpPr>
        <p:spPr>
          <a:xfrm>
            <a:off x="628560" y="343080"/>
            <a:ext cx="839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交实习报告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要实习→实习报告→下载报告模板→上传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75776"/>
          <p:cNvSpPr/>
          <p:nvPr/>
        </p:nvSpPr>
        <p:spPr>
          <a:xfrm>
            <a:off x="0" y="-1116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75777"/>
          <p:cNvSpPr/>
          <p:nvPr/>
        </p:nvSpPr>
        <p:spPr>
          <a:xfrm>
            <a:off x="6237360" y="2212920"/>
            <a:ext cx="101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谢谢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组合 75778"/>
          <p:cNvGrpSpPr/>
          <p:nvPr/>
        </p:nvGrpSpPr>
        <p:grpSpPr>
          <a:xfrm>
            <a:off x="216000" y="358920"/>
            <a:ext cx="6562800" cy="4422600"/>
            <a:chOff x="216000" y="358920"/>
            <a:chExt cx="6562800" cy="4422600"/>
          </a:xfrm>
        </p:grpSpPr>
        <p:sp>
          <p:nvSpPr>
            <p:cNvPr id="672" name="任意多边形 75779"/>
            <p:cNvSpPr/>
            <p:nvPr/>
          </p:nvSpPr>
          <p:spPr>
            <a:xfrm>
              <a:off x="216000" y="358920"/>
              <a:ext cx="6562800" cy="4422600"/>
            </a:xfrm>
            <a:custGeom>
              <a:avLst/>
              <a:gdLst>
                <a:gd name="textAreaLeft" fmla="*/ 0 w 6562800"/>
                <a:gd name="textAreaRight" fmla="*/ 6563160 w 6562800"/>
                <a:gd name="textAreaTop" fmla="*/ 0 h 4422600"/>
                <a:gd name="textAreaBottom" fmla="*/ 4422600 h 44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75780"/>
            <p:cNvSpPr/>
            <p:nvPr/>
          </p:nvSpPr>
          <p:spPr>
            <a:xfrm>
              <a:off x="216000" y="243216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文本框 2"/>
          <p:cNvSpPr/>
          <p:nvPr/>
        </p:nvSpPr>
        <p:spPr>
          <a:xfrm>
            <a:off x="1332000" y="1087560"/>
            <a:ext cx="47847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台有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自助服务：机器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助中心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台值班服务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:30-22:0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579-82722068    17757972178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:3001048075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微信服务群：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图片 1" descr=""/>
          <p:cNvPicPr/>
          <p:nvPr/>
        </p:nvPicPr>
        <p:blipFill>
          <a:blip r:embed="rId1"/>
          <a:stretch/>
        </p:blipFill>
        <p:spPr>
          <a:xfrm>
            <a:off x="3087720" y="252720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任意多边形 8196"/>
          <p:cNvSpPr/>
          <p:nvPr/>
        </p:nvSpPr>
        <p:spPr>
          <a:xfrm>
            <a:off x="3165480" y="1959120"/>
            <a:ext cx="3643200" cy="40464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8197"/>
          <p:cNvSpPr/>
          <p:nvPr/>
        </p:nvSpPr>
        <p:spPr>
          <a:xfrm>
            <a:off x="3743280" y="202464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8200"/>
          <p:cNvSpPr/>
          <p:nvPr/>
        </p:nvSpPr>
        <p:spPr>
          <a:xfrm>
            <a:off x="1019160" y="196164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任意多边形 8198"/>
          <p:cNvSpPr/>
          <p:nvPr/>
        </p:nvSpPr>
        <p:spPr>
          <a:xfrm>
            <a:off x="3165480" y="1106640"/>
            <a:ext cx="3645000" cy="4046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任意多边形 8196"/>
          <p:cNvSpPr/>
          <p:nvPr/>
        </p:nvSpPr>
        <p:spPr>
          <a:xfrm>
            <a:off x="3159000" y="2797200"/>
            <a:ext cx="3643560" cy="40464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8197"/>
          <p:cNvSpPr/>
          <p:nvPr/>
        </p:nvSpPr>
        <p:spPr>
          <a:xfrm>
            <a:off x="3817800" y="28620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"/>
          <p:cNvSpPr/>
          <p:nvPr/>
        </p:nvSpPr>
        <p:spPr>
          <a:xfrm>
            <a:off x="1012680" y="403200"/>
            <a:ext cx="71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式：扫描“校友邦”公众号二维码，点击实习成长→实习任务</a:t>
            </a: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报名，可快速进入校友邦小程序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图片 1" descr=""/>
          <p:cNvPicPr/>
          <p:nvPr/>
        </p:nvPicPr>
        <p:blipFill>
          <a:blip r:embed="rId1"/>
          <a:stretch/>
        </p:blipFill>
        <p:spPr>
          <a:xfrm>
            <a:off x="2306520" y="2050920"/>
            <a:ext cx="2229120" cy="22305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2" descr=""/>
          <p:cNvPicPr/>
          <p:nvPr/>
        </p:nvPicPr>
        <p:blipFill>
          <a:blip r:embed="rId2"/>
          <a:stretch/>
        </p:blipFill>
        <p:spPr>
          <a:xfrm>
            <a:off x="4619520" y="2068560"/>
            <a:ext cx="29098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文本框 3"/>
          <p:cNvSpPr/>
          <p:nvPr/>
        </p:nvSpPr>
        <p:spPr>
          <a:xfrm>
            <a:off x="1093680" y="719280"/>
            <a:ext cx="773604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右上角“学生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直接登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扫码登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使用小程序扫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除实习报告外，其他均可在小程序完成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端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任意多边形 8196"/>
          <p:cNvSpPr/>
          <p:nvPr/>
        </p:nvSpPr>
        <p:spPr>
          <a:xfrm>
            <a:off x="2987640" y="222552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8197"/>
          <p:cNvSpPr/>
          <p:nvPr/>
        </p:nvSpPr>
        <p:spPr>
          <a:xfrm>
            <a:off x="3565440" y="229140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8200"/>
          <p:cNvSpPr/>
          <p:nvPr/>
        </p:nvSpPr>
        <p:spPr>
          <a:xfrm>
            <a:off x="971640" y="222804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任意多边形 8198"/>
          <p:cNvSpPr/>
          <p:nvPr/>
        </p:nvSpPr>
        <p:spPr>
          <a:xfrm>
            <a:off x="2987640" y="1373040"/>
            <a:ext cx="3645000" cy="405000"/>
          </a:xfrm>
          <a:prstGeom prst="pie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任意多边形 8196"/>
          <p:cNvSpPr/>
          <p:nvPr/>
        </p:nvSpPr>
        <p:spPr>
          <a:xfrm>
            <a:off x="2981160" y="3063960"/>
            <a:ext cx="3643560" cy="40464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8197"/>
          <p:cNvSpPr/>
          <p:nvPr/>
        </p:nvSpPr>
        <p:spPr>
          <a:xfrm>
            <a:off x="3639960" y="312876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3"/>
          <p:cNvSpPr/>
          <p:nvPr/>
        </p:nvSpPr>
        <p:spPr>
          <a:xfrm>
            <a:off x="2511360" y="887400"/>
            <a:ext cx="412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册认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实习任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日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评价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帮助中心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"/>
          <p:cNvSpPr/>
          <p:nvPr/>
        </p:nvSpPr>
        <p:spPr>
          <a:xfrm>
            <a:off x="289080" y="-302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步骤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7" descr=""/>
          <p:cNvPicPr/>
          <p:nvPr/>
        </p:nvPicPr>
        <p:blipFill>
          <a:blip r:embed="rId1"/>
          <a:stretch/>
        </p:blipFill>
        <p:spPr>
          <a:xfrm>
            <a:off x="6689880" y="1328760"/>
            <a:ext cx="1544400" cy="341784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" descr=""/>
          <p:cNvPicPr/>
          <p:nvPr/>
        </p:nvPicPr>
        <p:blipFill>
          <a:blip r:embed="rId2"/>
          <a:stretch/>
        </p:blipFill>
        <p:spPr>
          <a:xfrm>
            <a:off x="2727360" y="1328760"/>
            <a:ext cx="1569960" cy="343692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3" descr=""/>
          <p:cNvPicPr/>
          <p:nvPr/>
        </p:nvPicPr>
        <p:blipFill>
          <a:blip r:embed="rId3"/>
          <a:stretch/>
        </p:blipFill>
        <p:spPr>
          <a:xfrm>
            <a:off x="836640" y="1328760"/>
            <a:ext cx="1544760" cy="34369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5" descr=""/>
          <p:cNvPicPr/>
          <p:nvPr/>
        </p:nvPicPr>
        <p:blipFill>
          <a:blip r:embed="rId4"/>
          <a:stretch/>
        </p:blipFill>
        <p:spPr>
          <a:xfrm>
            <a:off x="4707000" y="1311120"/>
            <a:ext cx="1476360" cy="3436920"/>
          </a:xfrm>
          <a:prstGeom prst="rect">
            <a:avLst/>
          </a:prstGeom>
          <a:ln w="0">
            <a:noFill/>
          </a:ln>
        </p:spPr>
      </p:pic>
      <p:sp>
        <p:nvSpPr>
          <p:cNvPr id="604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6"/>
          <p:cNvSpPr/>
          <p:nvPr/>
        </p:nvSpPr>
        <p:spPr>
          <a:xfrm>
            <a:off x="150840" y="282600"/>
            <a:ext cx="73771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册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→立即登录→微信登录或校友邦账号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证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籍认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入学籍信息“立即认证”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4"/>
          <p:cNvSpPr/>
          <p:nvPr/>
        </p:nvSpPr>
        <p:spPr>
          <a:xfrm>
            <a:off x="289080" y="-302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册认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直接箭头连接符 9" descr=""/>
          <p:cNvPicPr/>
          <p:nvPr/>
        </p:nvPicPr>
        <p:blipFill>
          <a:blip r:embed="rId5"/>
          <a:stretch/>
        </p:blipFill>
        <p:spPr>
          <a:xfrm>
            <a:off x="811080" y="1579680"/>
            <a:ext cx="865440" cy="792000"/>
          </a:xfrm>
          <a:prstGeom prst="rect">
            <a:avLst/>
          </a:prstGeom>
          <a:ln w="0">
            <a:noFill/>
          </a:ln>
        </p:spPr>
      </p:pic>
      <p:sp>
        <p:nvSpPr>
          <p:cNvPr id="608" name="框架 6"/>
          <p:cNvSpPr/>
          <p:nvPr/>
        </p:nvSpPr>
        <p:spPr>
          <a:xfrm>
            <a:off x="4753080" y="3832200"/>
            <a:ext cx="1403280" cy="293760"/>
          </a:xfrm>
          <a:custGeom>
            <a:avLst/>
            <a:gdLst>
              <a:gd name="textAreaLeft" fmla="*/ 36720 w 1403280"/>
              <a:gd name="textAreaRight" fmla="*/ 1366560 w 1403280"/>
              <a:gd name="textAreaTop" fmla="*/ 36720 h 293760"/>
              <a:gd name="textAreaBottom" fmla="*/ 257040 h 293760"/>
            </a:gdLst>
            <a:ahLst/>
            <a:rect l="textAreaLeft" t="textAreaTop" r="textAreaRight" b="textAreaBottom"/>
            <a:pathLst>
              <a:path w="1404620" h="294005">
                <a:moveTo>
                  <a:pt x="0" y="0"/>
                </a:moveTo>
                <a:lnTo>
                  <a:pt x="1404620" y="0"/>
                </a:lnTo>
                <a:lnTo>
                  <a:pt x="1404620" y="294005"/>
                </a:lnTo>
                <a:lnTo>
                  <a:pt x="0" y="294005"/>
                </a:lnTo>
                <a:close/>
                <a:moveTo>
                  <a:pt x="36751" y="36751"/>
                </a:moveTo>
                <a:lnTo>
                  <a:pt x="36751" y="257254"/>
                </a:lnTo>
                <a:lnTo>
                  <a:pt x="1367869" y="257254"/>
                </a:lnTo>
                <a:lnTo>
                  <a:pt x="1367869" y="36751"/>
                </a:lnTo>
                <a:close/>
              </a:path>
            </a:pathLst>
          </a:cu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4" descr=""/>
          <p:cNvPicPr/>
          <p:nvPr/>
        </p:nvPicPr>
        <p:blipFill>
          <a:blip r:embed="rId1"/>
          <a:stretch/>
        </p:blipFill>
        <p:spPr>
          <a:xfrm>
            <a:off x="6581880" y="1000080"/>
            <a:ext cx="2081160" cy="3801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8" descr=""/>
          <p:cNvPicPr/>
          <p:nvPr/>
        </p:nvPicPr>
        <p:blipFill>
          <a:blip r:embed="rId2"/>
          <a:stretch/>
        </p:blipFill>
        <p:spPr>
          <a:xfrm>
            <a:off x="3492360" y="1000080"/>
            <a:ext cx="2003400" cy="380196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6" descr=""/>
          <p:cNvPicPr/>
          <p:nvPr/>
        </p:nvPicPr>
        <p:blipFill>
          <a:blip r:embed="rId3"/>
          <a:stretch/>
        </p:blipFill>
        <p:spPr>
          <a:xfrm>
            <a:off x="836640" y="1041480"/>
            <a:ext cx="1747800" cy="3760560"/>
          </a:xfrm>
          <a:prstGeom prst="rect">
            <a:avLst/>
          </a:prstGeom>
          <a:ln w="0">
            <a:noFill/>
          </a:ln>
        </p:spPr>
      </p:pic>
      <p:sp>
        <p:nvSpPr>
          <p:cNvPr id="612" name="矩形 59407"/>
          <p:cNvSpPr/>
          <p:nvPr/>
        </p:nvSpPr>
        <p:spPr>
          <a:xfrm>
            <a:off x="12600" y="-9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看实习任务报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3"/>
          <p:cNvSpPr/>
          <p:nvPr/>
        </p:nvSpPr>
        <p:spPr>
          <a:xfrm>
            <a:off x="163440" y="414360"/>
            <a:ext cx="838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查看实习任务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 实习任务→查看详情（老师设置的要求都在里面哦）                              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直接箭头连接符 16" descr=""/>
          <p:cNvPicPr/>
          <p:nvPr/>
        </p:nvPicPr>
        <p:blipFill>
          <a:blip r:embed="rId4"/>
          <a:stretch/>
        </p:blipFill>
        <p:spPr>
          <a:xfrm>
            <a:off x="6145200" y="2073240"/>
            <a:ext cx="725400" cy="42552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5"/>
          <p:cNvSpPr/>
          <p:nvPr/>
        </p:nvSpPr>
        <p:spPr>
          <a:xfrm>
            <a:off x="277920" y="2543040"/>
            <a:ext cx="404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成长模块在底部哦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2793960" y="1557360"/>
            <a:ext cx="5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点击实习任务，可查看计划具体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直接箭头连接符 4" descr=""/>
          <p:cNvPicPr/>
          <p:nvPr/>
        </p:nvPicPr>
        <p:blipFill>
          <a:blip r:embed="rId5"/>
          <a:stretch/>
        </p:blipFill>
        <p:spPr>
          <a:xfrm>
            <a:off x="652320" y="3962520"/>
            <a:ext cx="731880" cy="6458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5"/>
          <p:cNvSpPr/>
          <p:nvPr/>
        </p:nvSpPr>
        <p:spPr>
          <a:xfrm>
            <a:off x="5695920" y="1076400"/>
            <a:ext cx="66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查看详情，可查看实习要求和项目信息，包括指导老师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直接箭头连接符 7" descr=""/>
          <p:cNvPicPr/>
          <p:nvPr/>
        </p:nvPicPr>
        <p:blipFill>
          <a:blip r:embed="rId6"/>
          <a:stretch/>
        </p:blipFill>
        <p:spPr>
          <a:xfrm>
            <a:off x="3267000" y="2030400"/>
            <a:ext cx="682560" cy="384120"/>
          </a:xfrm>
          <a:prstGeom prst="rect">
            <a:avLst/>
          </a:prstGeom>
          <a:ln w="0">
            <a:noFill/>
          </a:ln>
        </p:spPr>
      </p:pic>
      <p:pic>
        <p:nvPicPr>
          <p:cNvPr id="620" name="直接箭头连接符 13" descr=""/>
          <p:cNvPicPr/>
          <p:nvPr/>
        </p:nvPicPr>
        <p:blipFill>
          <a:blip r:embed="rId7"/>
          <a:stretch/>
        </p:blipFill>
        <p:spPr>
          <a:xfrm>
            <a:off x="1957320" y="2487600"/>
            <a:ext cx="932040" cy="407880"/>
          </a:xfrm>
          <a:prstGeom prst="rect">
            <a:avLst/>
          </a:prstGeom>
          <a:ln w="0">
            <a:noFill/>
          </a:ln>
        </p:spPr>
      </p:pic>
      <p:pic>
        <p:nvPicPr>
          <p:cNvPr id="621" name="直接箭头连接符 15" descr=""/>
          <p:cNvPicPr/>
          <p:nvPr/>
        </p:nvPicPr>
        <p:blipFill>
          <a:blip r:embed="rId8"/>
          <a:stretch/>
        </p:blipFill>
        <p:spPr>
          <a:xfrm>
            <a:off x="3895560" y="1523880"/>
            <a:ext cx="1901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5" descr=""/>
          <p:cNvPicPr/>
          <p:nvPr/>
        </p:nvPicPr>
        <p:blipFill>
          <a:blip r:embed="rId1"/>
          <a:stretch/>
        </p:blipFill>
        <p:spPr>
          <a:xfrm>
            <a:off x="2771640" y="906480"/>
            <a:ext cx="1663920" cy="36450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6" descr=""/>
          <p:cNvPicPr/>
          <p:nvPr/>
        </p:nvPicPr>
        <p:blipFill>
          <a:blip r:embed="rId2"/>
          <a:stretch/>
        </p:blipFill>
        <p:spPr>
          <a:xfrm>
            <a:off x="341280" y="906480"/>
            <a:ext cx="1662120" cy="3738600"/>
          </a:xfrm>
          <a:prstGeom prst="rect">
            <a:avLst/>
          </a:prstGeom>
          <a:ln w="0">
            <a:noFill/>
          </a:ln>
        </p:spPr>
      </p:pic>
      <p:sp>
        <p:nvSpPr>
          <p:cNvPr id="624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日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3"/>
          <a:stretch/>
        </p:blipFill>
        <p:spPr>
          <a:xfrm>
            <a:off x="4856040" y="816120"/>
            <a:ext cx="1724040" cy="37353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9" descr=""/>
          <p:cNvPicPr/>
          <p:nvPr/>
        </p:nvPicPr>
        <p:blipFill>
          <a:blip r:embed="rId4"/>
          <a:stretch/>
        </p:blipFill>
        <p:spPr>
          <a:xfrm>
            <a:off x="6970680" y="816120"/>
            <a:ext cx="1724040" cy="373356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5"/>
          <p:cNvSpPr/>
          <p:nvPr/>
        </p:nvSpPr>
        <p:spPr>
          <a:xfrm>
            <a:off x="2771640" y="2751120"/>
            <a:ext cx="20145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草稿箱在这里哟</a:t>
            </a:r>
            <a:r>
              <a:rPr b="0" lang="en-US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~~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矩形 16"/>
          <p:cNvSpPr/>
          <p:nvPr/>
        </p:nvSpPr>
        <p:spPr>
          <a:xfrm>
            <a:off x="6937200" y="3157560"/>
            <a:ext cx="16639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关联日期必须在实习时间范围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142920" y="343080"/>
            <a:ext cx="838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交日志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→ 周日志→点击“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”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，写日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直接箭头连接符 1" descr=""/>
          <p:cNvPicPr/>
          <p:nvPr/>
        </p:nvPicPr>
        <p:blipFill>
          <a:blip r:embed="rId5"/>
          <a:stretch/>
        </p:blipFill>
        <p:spPr>
          <a:xfrm>
            <a:off x="1042920" y="1487520"/>
            <a:ext cx="1243080" cy="695160"/>
          </a:xfrm>
          <a:prstGeom prst="rect">
            <a:avLst/>
          </a:prstGeom>
          <a:ln w="0">
            <a:noFill/>
          </a:ln>
        </p:spPr>
      </p:pic>
      <p:pic>
        <p:nvPicPr>
          <p:cNvPr id="631" name="直接箭头连接符 3" descr=""/>
          <p:cNvPicPr/>
          <p:nvPr/>
        </p:nvPicPr>
        <p:blipFill>
          <a:blip r:embed="rId6"/>
          <a:stretch/>
        </p:blipFill>
        <p:spPr>
          <a:xfrm>
            <a:off x="3524400" y="3060720"/>
            <a:ext cx="736560" cy="1004760"/>
          </a:xfrm>
          <a:prstGeom prst="rect">
            <a:avLst/>
          </a:prstGeom>
          <a:ln w="0">
            <a:noFill/>
          </a:ln>
        </p:spPr>
      </p:pic>
      <p:pic>
        <p:nvPicPr>
          <p:cNvPr id="632" name="直接箭头连接符 4" descr=""/>
          <p:cNvPicPr/>
          <p:nvPr/>
        </p:nvPicPr>
        <p:blipFill>
          <a:blip r:embed="rId7"/>
          <a:stretch/>
        </p:blipFill>
        <p:spPr>
          <a:xfrm>
            <a:off x="7620120" y="2657520"/>
            <a:ext cx="560160" cy="780840"/>
          </a:xfrm>
          <a:prstGeom prst="rect">
            <a:avLst/>
          </a:prstGeom>
          <a:ln w="0">
            <a:noFill/>
          </a:ln>
        </p:spPr>
      </p:pic>
      <p:pic>
        <p:nvPicPr>
          <p:cNvPr id="633" name="文本框 7" descr=""/>
          <p:cNvPicPr/>
          <p:nvPr/>
        </p:nvPicPr>
        <p:blipFill>
          <a:blip r:embed="rId8"/>
          <a:stretch/>
        </p:blipFill>
        <p:spPr>
          <a:xfrm>
            <a:off x="2157480" y="1030320"/>
            <a:ext cx="5000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00Z</dcterms:created>
  <dc:creator>Administrator</dc:creator>
  <dc:description/>
  <dc:language>en-US</dc:language>
  <cp:lastModifiedBy>Administrator</cp:lastModifiedBy>
  <dcterms:modified xsi:type="dcterms:W3CDTF">2022-05-20T02:13:46Z</dcterms:modified>
  <cp:revision>4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B3B31EBC04E4101A8FF82A3AD3B42E7</vt:lpwstr>
  </property>
  <property fmtid="{D5CDD505-2E9C-101B-9397-08002B2CF9AE}" pid="3" name="KSOProductBuildVer">
    <vt:lpwstr>2052-11.1.0.11691</vt:lpwstr>
  </property>
</Properties>
</file>