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718E-FDA6-4D90-BB3C-2A9D2554E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9AF5-0484-4785-809B-EA3DE0392A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53F30E-FEE6-4F1B-8F83-EF21B4B9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FFC36-CBDD-46D8-8A1B-E5F20F1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30F49-C1F2-4F2E-96EE-6F4F600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FCD89-F212-47E4-ACE2-AC40FE6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9D081-25EF-49B0-9512-AAD262F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4CAE8-40ED-4DC5-9F61-A9D6972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F8310E-06F0-4990-910E-D397165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5818B-7D04-4BE3-8A01-6B9BE18A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62F81-C294-4851-B5A1-77C205F3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EDCD9-5550-4736-8F2C-EA13FD4A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0F94-00B8-442D-8DF7-C2D5F9916E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F5DE5-3928-4B28-A47E-714724E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DA2C2-04C3-4CE5-B899-70168C1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9D802-071E-4ADF-9A39-7C0E73A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F686DF-2632-46AC-B56D-C7943B7C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2E3F1B-EA92-4C83-9869-2AE285A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72B2C-F962-4FD1-934A-A22CF29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E9E5A-363A-4731-A386-29BBCAD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0C300-A059-403E-89D7-19E9933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91A67B-C6BC-4826-B8F6-76294ABA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6EBC7-E186-421C-9C3A-44ED39FC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4BB-6A83-41A0-AD80-D05A380A3AB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3F375-A5FF-4230-AC88-C101A8BE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19DDC-12B7-47C2-ACC5-D621DECD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4926E-348F-4C70-B291-0635C3A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DB2A1-A947-44F7-982C-96A2FD56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41CA6-B147-4C1E-9475-04D2FB6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26CBE-B630-4846-9751-95913AB3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7C792-6DE7-4511-9DBA-022115E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75696-C4E1-4887-BDEE-AB048F4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72496-1BCF-461E-A8A1-A94E093C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06F41-6B7A-4725-B98C-61F70BC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F294-4FA1-48E0-AF81-B4D6F00E8A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BDEFC-524D-42F7-BB33-C15B8E2F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7C590-F5FA-4C3A-AB0C-1BF21AA8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BDA37-7B90-47B7-A756-8CC2E755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0AE53-F05C-4FF9-B6DF-68D0F56D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C9E3E-A208-4E57-A860-74742392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0F352-3CEF-4B57-BDA0-A125A64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3594E-DB5B-4C0E-A0DF-8681EA3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F2619-B6F3-43E6-BAF0-D80AABD2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C1634-B74C-46A5-9B41-416CBA3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8ABB8-CE38-4955-B5BD-4791EA0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38E0-86FC-4581-A351-71544BFC91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4DF53-32E0-4ADA-B6D3-7A2BB29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2CA68-F2D2-4EFC-BDA8-6E37EF8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036EB-7950-4405-9D0B-756CB12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FD310-947B-48B4-A172-D7495AA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AF82C-97C3-4FFE-99E3-7EAAEDB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9B5D4B-D91F-4AFB-B640-FC43A24D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9AA6EB-F6DE-424F-9E12-02D3140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8992BF-A465-419F-A065-435B602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CE6A2E-EBFD-40C5-9C23-5C2E4E3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792DD-9180-41E4-9BB9-E499FBB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8C3E-B8A8-450E-91DA-9778D8E462F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3E9CD0-5671-4A07-A3E0-DDBFD30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0E56B-6ADE-47F3-8B73-5F888919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9FA1BC-E0FB-405E-A232-AD2C12D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E35362-306F-42F0-B59B-A7CDAD9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EE5F03-C76A-4B5E-856D-E90ED69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5EA39-CF2D-4F8E-B41B-6A34F23B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68E240-5B58-411A-AA98-9E8145BE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0D4AE-B283-4FEA-88CA-80F7B592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4D985-F75E-453C-8C58-C80639B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E3CD9-6C47-43C1-B380-5192EA81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B468-524A-4907-B7DD-E3440C24AFA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EAF84-CB95-41A3-B68B-29D434E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6FE8B-486C-41C8-A092-97743D2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0E6AB-D98E-4E24-BC44-EF3F06A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F845C-B501-4948-8346-C37F545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E41DC-1522-4916-8884-56085D2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58C64-7755-4F45-A161-70FE733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0A9A5-4436-42F2-B2B4-7BF7DF84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24E29-CEC4-4BF7-BDA7-EEF559BB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10C6E-3F00-46FF-A410-5E2BC10F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543BBD-24F1-45F4-8537-D7B3B547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BBA9-FFD9-47A8-8E2D-5560FD4B902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BB38E5-F437-4669-A4E7-473D3E1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494778-4C73-4514-8841-EDADCC46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D2003E-D3A7-4ABD-A913-166DF373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933C0F-CD29-4F0E-949C-F5D1B03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3040AC-AA86-4542-A3A7-505BBBC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B0E114-26EF-4DB4-BFBB-81E2E5D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8FF251-600B-4CDA-B823-B24FA8F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7033CE-2E64-4BE7-9910-C2F7770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2A317A-AD4F-46D1-8331-7C5A1610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C70423-ECED-4EDB-89B6-301FCBFB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87F8-6919-41C9-8DE4-4EA2E2F034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7E62FC-E608-4B43-90AA-76914775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85C74B-4DE8-43E0-AA93-74AC27D1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C23008-9463-4767-B191-075B7528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8B0527-D9A4-4AB6-9C59-38E33AD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BD1D32-5BA2-4738-99B8-77B1604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3D5F3E-E8E3-4CD0-A025-E9514D3B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A740DD-1F00-4765-A4A1-805175C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7E14BC-1B2F-416D-AB7C-4D701F6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18789A-AE8E-4920-9102-E394CCD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0B6501-884F-4342-BE85-E710EA4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9754-F98E-457D-A460-6ED70BB42BC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2469AE-9B65-464E-AA19-1241ABD6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2DA158-88EA-4AFB-B356-8939119D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22518B-2192-4A04-903C-5A505660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3D1F-9F09-4AEC-8A78-D343A219E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D2E8-D117-4809-9346-35C3E3161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2A52-0FDD-4835-AEC1-DF1FEEB3C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13B1-69EE-44FE-845B-C4905C919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4F44-2198-4F85-A823-CD0DB68BF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364E-4F12-4DE9-8EAD-BD1141B778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D33-4457-4918-B056-B5C1FA40CC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DFC-2C77-41B8-8B98-F91F460AEE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A60-E945-4E37-95AC-AE9D57DF8F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271-8BEA-4CB2-A8F8-56EECE2748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D78-C2FE-434B-A9E0-76C4F7E43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2CDC-3FB1-4CEA-A3E0-85FC5D2012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16A-8CC7-4B88-9DC9-FCF4719CE4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2FA-7214-4E35-AFEA-DB717D6AFE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2DC-9F15-40E7-8AB2-C1A5C96FBC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33D-E12D-4C0E-A8B5-A532517950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BFD-8E92-4EF2-846D-9B60A08290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462-5E38-401D-BCAC-A9DF31BCBC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8E7-CCFC-4D57-BF4A-C57F73AE81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4870-25D4-4DDE-ABED-A55B4B345C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095C-8303-413B-AACA-422281D89A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17B45-F6D1-411C-95E3-D807409D0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678B-D273-4ABB-9A25-FB1DEF514C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9E0F4-D6FC-4E6D-8A20-7512A16BCA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10FDD-921D-48DC-84B7-2F78B6074D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9AFFD-9845-4349-93BA-2259C436D2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D95C-F4ED-4388-A855-366E84FCC5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23FC-FF2F-4F6E-AF67-DD96F99EEE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4533C-708E-4DFE-AB29-D58974AA4A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B7E82-8F28-42DC-8AE9-547CD00227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C4DD-263F-43B0-A838-728FC13AA6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E4415-65DA-40A6-8EA2-CB6DCD1257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468C3-4C94-40FC-87B8-E5576B2E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0604-9E58-4599-8193-54F0F3B5AA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BD04D-5A70-4869-B03A-9BFF044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166B4-272F-41C0-8865-9585BB6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EE30A-B0C9-4EF0-93C9-1A8F765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F75BA-C775-484E-973F-50C5164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AB99E-7DFF-40D7-8C18-16E90025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07937-5F83-467F-B651-77AEE33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0E126-647F-4A96-BC15-29C62D5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F464F-F43B-44BF-82E5-D5E522F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D5E3C-C557-40C8-845B-976FF36E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3BD71-3CDC-4910-AA49-AE4BB371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D39F-6737-4BC2-80C7-E65376E9F7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CAA63-C9E3-49E1-9936-20B5D18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010AE-365B-4CF2-820C-B87AA72C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1AAB5-C250-4526-B53C-9C811C86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EA9A6-C2DA-4CAD-93E8-942886D3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11076-BAFA-4E4E-B7F3-2098FF9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3F716-A22A-4247-9030-6A5A5C0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D2B8A-6C0F-428F-A906-25B4F62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A8B6C-8328-4EB5-9DD9-A46EE55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E6AE6-CBA6-4288-B5CF-67EE465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1481C-4115-4088-A55D-F26E562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84DE-AB25-4337-8FEC-59C5E4C0E0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99F0E-66E4-4E0E-902F-10556E0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05165-3D75-49A6-B2AF-BED0FBA4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935DC-A39F-40D4-A471-B34F4AB2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B6A7D-90FB-4EE9-97F1-2CBABB38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E1F06-F725-4F93-B120-F004253A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40EC0-8793-4B1E-8B97-58CD0984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20A87-165E-4CFB-A86B-77CD063B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8F9A5E-9896-4AFF-87D6-D904BE7C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953F8-B048-4196-94E2-4AEC65A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BF0F3-BC2D-4445-AAF2-190C7F8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BB9B-5E50-417D-B673-30D48EA30B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E200F-4B5B-4423-8BF9-22C5184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5B4BC-BCDD-4C76-AABF-948C2D8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3175A-1970-416B-8137-019F43C0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B28E1-ED50-46BD-B7AB-42D96F8C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AE6C48-B975-489F-A8C9-EA440FF8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1A81B0-EE13-4193-BB4F-B3616677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4437B-1EE4-486A-AF7B-D1E0E41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2913F9-110C-4F56-A782-AD842C2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D2F25-A497-410A-861F-96F1119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65949-8A8E-4B0E-8430-BECD3098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167D-CB3B-439B-A412-A309AF6DB4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1D249-C603-438B-A7EB-8071B5E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E4419-6E18-4645-8623-AF654C7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B3B78-5331-4F84-9C67-A3A8DF1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ECAD6-CC08-4A0B-8BB8-587954D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37C30-05E9-4A5D-BDC1-DF363B89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CD6AD-4ACD-4654-8F8A-8611BA10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D10E9-0C4A-434B-BA4E-FB0A4DCF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824610-6B4F-4F47-8703-52935B0A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C916F-D2CC-4154-A65E-D844D419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35370-FE79-473B-911C-90166380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B0ED-C1F3-4EFD-AE45-76015680D24D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E651-808A-412E-93EE-0D197EEE1F50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1E7A-5D79-4656-9BAF-D07CE6AA0B7A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2AAD-0E53-49DB-BC62-1D45587775A1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87A8-ED77-4A8A-8EFD-75A75DD1D24B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DFA-3051-4F10-8ECF-96FCEC69C193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762-40CB-4188-86B8-0CCF0E83B293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CEB-436B-4096-A917-86AF0B167DC3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2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A37-FB2D-42C0-A52E-99522DDBD0CA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072" descr="image.png"/>
          <p:cNvPicPr/>
          <p:nvPr/>
        </p:nvPicPr>
        <p:blipFill>
          <a:blip r:embed="rId2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073" descr="image.pn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7A4-DBF0-4205-AA36-47FD2D7EF66F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5120" descr="image.pn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5121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EC3-E5DC-4E96-B39D-D5397B6FA2A1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61B-F618-4173-B029-BDCCCDD75F20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F87F-1D99-4820-AAB7-813BD150AE29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587-7C37-48A1-B60E-5B27E78278AC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F244-75B0-49D4-B9C2-DF9B7D20E65C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D73B-8256-43CF-8222-2DE4FFF16DFF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2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>
              <a:gd name="textAreaLeft" fmla="*/ 0 w 9200880"/>
              <a:gd name="textAreaRight" fmla="*/ 9201240 w 920088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52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>
              <a:gd name="textAreaLeft" fmla="*/ 0 w 9201240"/>
              <a:gd name="textAreaRight" fmla="*/ 9201600 w 92012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74760"/>
            <a:ext cx="7556400" cy="409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</p:pic>
      <p:sp>
        <p:nvSpPr>
          <p:cNvPr id="656" name="矩形 7174"/>
          <p:cNvSpPr/>
          <p:nvPr/>
        </p:nvSpPr>
        <p:spPr>
          <a:xfrm>
            <a:off x="2244600" y="1758960"/>
            <a:ext cx="465480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操作指南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3" descr=""/>
          <p:cNvPicPr/>
          <p:nvPr/>
        </p:nvPicPr>
        <p:blipFill>
          <a:blip r:embed="rId1"/>
          <a:stretch/>
        </p:blipFill>
        <p:spPr>
          <a:xfrm>
            <a:off x="96840" y="482760"/>
            <a:ext cx="8832960" cy="433836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7"/>
          <p:cNvSpPr/>
          <p:nvPr/>
        </p:nvSpPr>
        <p:spPr>
          <a:xfrm>
            <a:off x="196920" y="-468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文本框 6" descr=""/>
          <p:cNvPicPr/>
          <p:nvPr/>
        </p:nvPicPr>
        <p:blipFill>
          <a:blip r:embed="rId2"/>
          <a:stretch/>
        </p:blipFill>
        <p:spPr>
          <a:xfrm>
            <a:off x="-36360" y="225360"/>
            <a:ext cx="5162400" cy="2524320"/>
          </a:xfrm>
          <a:prstGeom prst="rect">
            <a:avLst/>
          </a:prstGeom>
          <a:ln w="0">
            <a:noFill/>
          </a:ln>
        </p:spPr>
      </p:pic>
      <p:pic>
        <p:nvPicPr>
          <p:cNvPr id="707" name="直接箭头连接符 7" descr=""/>
          <p:cNvPicPr/>
          <p:nvPr/>
        </p:nvPicPr>
        <p:blipFill>
          <a:blip r:embed="rId3"/>
          <a:stretch/>
        </p:blipFill>
        <p:spPr>
          <a:xfrm>
            <a:off x="285840" y="1017720"/>
            <a:ext cx="866520" cy="519120"/>
          </a:xfrm>
          <a:prstGeom prst="rect">
            <a:avLst/>
          </a:prstGeom>
          <a:ln w="0">
            <a:noFill/>
          </a:ln>
        </p:spPr>
      </p:pic>
      <p:pic>
        <p:nvPicPr>
          <p:cNvPr id="708" name="文本框 4" descr=""/>
          <p:cNvPicPr/>
          <p:nvPr/>
        </p:nvPicPr>
        <p:blipFill>
          <a:blip r:embed="rId4"/>
          <a:stretch/>
        </p:blipFill>
        <p:spPr>
          <a:xfrm>
            <a:off x="-622440" y="2401920"/>
            <a:ext cx="5535720" cy="2517840"/>
          </a:xfrm>
          <a:prstGeom prst="rect">
            <a:avLst/>
          </a:prstGeom>
          <a:ln w="0">
            <a:noFill/>
          </a:ln>
        </p:spPr>
      </p:pic>
      <p:pic>
        <p:nvPicPr>
          <p:cNvPr id="709" name="直接箭头连接符 5" descr=""/>
          <p:cNvPicPr/>
          <p:nvPr/>
        </p:nvPicPr>
        <p:blipFill>
          <a:blip r:embed="rId5"/>
          <a:stretch/>
        </p:blipFill>
        <p:spPr>
          <a:xfrm>
            <a:off x="701640" y="2809800"/>
            <a:ext cx="779400" cy="652680"/>
          </a:xfrm>
          <a:prstGeom prst="rect">
            <a:avLst/>
          </a:prstGeom>
          <a:ln w="0">
            <a:noFill/>
          </a:ln>
        </p:spPr>
      </p:pic>
      <p:pic>
        <p:nvPicPr>
          <p:cNvPr id="710" name="文本框 8" descr=""/>
          <p:cNvPicPr/>
          <p:nvPr/>
        </p:nvPicPr>
        <p:blipFill>
          <a:blip r:embed="rId6"/>
          <a:stretch/>
        </p:blipFill>
        <p:spPr>
          <a:xfrm>
            <a:off x="1805040" y="1311120"/>
            <a:ext cx="5533920" cy="2517840"/>
          </a:xfrm>
          <a:prstGeom prst="rect">
            <a:avLst/>
          </a:prstGeom>
          <a:ln w="0">
            <a:noFill/>
          </a:ln>
        </p:spPr>
      </p:pic>
      <p:pic>
        <p:nvPicPr>
          <p:cNvPr id="711" name="直接箭头连接符 9" descr=""/>
          <p:cNvPicPr/>
          <p:nvPr/>
        </p:nvPicPr>
        <p:blipFill>
          <a:blip r:embed="rId7"/>
          <a:stretch/>
        </p:blipFill>
        <p:spPr>
          <a:xfrm>
            <a:off x="2189160" y="24685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712" name="文本框 10" descr=""/>
          <p:cNvPicPr/>
          <p:nvPr/>
        </p:nvPicPr>
        <p:blipFill>
          <a:blip r:embed="rId8"/>
          <a:stretch/>
        </p:blipFill>
        <p:spPr>
          <a:xfrm>
            <a:off x="3139920" y="2944800"/>
            <a:ext cx="4364280" cy="2517840"/>
          </a:xfrm>
          <a:prstGeom prst="rect">
            <a:avLst/>
          </a:prstGeom>
          <a:ln w="0">
            <a:noFill/>
          </a:ln>
        </p:spPr>
      </p:pic>
      <p:pic>
        <p:nvPicPr>
          <p:cNvPr id="713" name="直接箭头连接符 11" descr=""/>
          <p:cNvPicPr/>
          <p:nvPr/>
        </p:nvPicPr>
        <p:blipFill>
          <a:blip r:embed="rId9"/>
          <a:stretch/>
        </p:blipFill>
        <p:spPr>
          <a:xfrm>
            <a:off x="3468600" y="4267080"/>
            <a:ext cx="706680" cy="438120"/>
          </a:xfrm>
          <a:prstGeom prst="rect">
            <a:avLst/>
          </a:prstGeom>
          <a:ln w="0">
            <a:noFill/>
          </a:ln>
        </p:spPr>
      </p:pic>
      <p:pic>
        <p:nvPicPr>
          <p:cNvPr id="714" name="文本框 12" descr=""/>
          <p:cNvPicPr/>
          <p:nvPr/>
        </p:nvPicPr>
        <p:blipFill>
          <a:blip r:embed="rId10"/>
          <a:stretch/>
        </p:blipFill>
        <p:spPr>
          <a:xfrm>
            <a:off x="5157720" y="2127240"/>
            <a:ext cx="3778200" cy="2517840"/>
          </a:xfrm>
          <a:prstGeom prst="rect">
            <a:avLst/>
          </a:prstGeom>
          <a:ln w="0">
            <a:noFill/>
          </a:ln>
        </p:spPr>
      </p:pic>
      <p:pic>
        <p:nvPicPr>
          <p:cNvPr id="715" name="直接箭头连接符 13" descr=""/>
          <p:cNvPicPr/>
          <p:nvPr/>
        </p:nvPicPr>
        <p:blipFill>
          <a:blip r:embed="rId11"/>
          <a:stretch/>
        </p:blipFill>
        <p:spPr>
          <a:xfrm>
            <a:off x="6931080" y="2676600"/>
            <a:ext cx="365040" cy="49356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2" descr=""/>
          <p:cNvPicPr/>
          <p:nvPr/>
        </p:nvPicPr>
        <p:blipFill>
          <a:blip r:embed="rId12"/>
          <a:stretch/>
        </p:blipFill>
        <p:spPr>
          <a:xfrm>
            <a:off x="4562640" y="2562120"/>
            <a:ext cx="18720" cy="19080"/>
          </a:xfrm>
          <a:prstGeom prst="rect">
            <a:avLst/>
          </a:prstGeom>
          <a:ln w="0">
            <a:noFill/>
          </a:ln>
        </p:spPr>
      </p:pic>
      <p:sp>
        <p:nvSpPr>
          <p:cNvPr id="717" name="文本框 14"/>
          <p:cNvSpPr/>
          <p:nvPr/>
        </p:nvSpPr>
        <p:spPr>
          <a:xfrm>
            <a:off x="6627600" y="178272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6.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直接箭头连接符 15" descr=""/>
          <p:cNvPicPr/>
          <p:nvPr/>
        </p:nvPicPr>
        <p:blipFill>
          <a:blip r:embed="rId13"/>
          <a:stretch/>
        </p:blipFill>
        <p:spPr>
          <a:xfrm>
            <a:off x="7139160" y="1395360"/>
            <a:ext cx="950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1" descr=""/>
          <p:cNvPicPr/>
          <p:nvPr/>
        </p:nvPicPr>
        <p:blipFill>
          <a:blip r:embed="rId1"/>
          <a:stretch/>
        </p:blipFill>
        <p:spPr>
          <a:xfrm>
            <a:off x="90360" y="500040"/>
            <a:ext cx="8840880" cy="434484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"/>
          <p:cNvSpPr/>
          <p:nvPr/>
        </p:nvSpPr>
        <p:spPr>
          <a:xfrm>
            <a:off x="293760" y="27000"/>
            <a:ext cx="43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文本框 6" descr=""/>
          <p:cNvPicPr/>
          <p:nvPr/>
        </p:nvPicPr>
        <p:blipFill>
          <a:blip r:embed="rId2"/>
          <a:stretch/>
        </p:blipFill>
        <p:spPr>
          <a:xfrm>
            <a:off x="3340080" y="2225520"/>
            <a:ext cx="4645080" cy="2517840"/>
          </a:xfrm>
          <a:prstGeom prst="rect">
            <a:avLst/>
          </a:prstGeom>
          <a:ln w="0">
            <a:noFill/>
          </a:ln>
        </p:spPr>
      </p:pic>
      <p:pic>
        <p:nvPicPr>
          <p:cNvPr id="722" name="直接箭头连接符 7" descr=""/>
          <p:cNvPicPr/>
          <p:nvPr/>
        </p:nvPicPr>
        <p:blipFill>
          <a:blip r:embed="rId3"/>
          <a:stretch/>
        </p:blipFill>
        <p:spPr>
          <a:xfrm>
            <a:off x="3651120" y="3554280"/>
            <a:ext cx="755640" cy="66996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1" descr="返回"/>
          <p:cNvPicPr/>
          <p:nvPr/>
        </p:nvPicPr>
        <p:blipFill>
          <a:blip r:embed="rId4"/>
          <a:stretch/>
        </p:blipFill>
        <p:spPr>
          <a:xfrm>
            <a:off x="8867880" y="4602240"/>
            <a:ext cx="244440" cy="242640"/>
          </a:xfrm>
          <a:prstGeom prst="rect">
            <a:avLst/>
          </a:prstGeom>
          <a:ln w="0">
            <a:noFill/>
          </a:ln>
        </p:spPr>
      </p:pic>
      <p:sp>
        <p:nvSpPr>
          <p:cNvPr id="724" name="文本框 14"/>
          <p:cNvSpPr/>
          <p:nvPr/>
        </p:nvSpPr>
        <p:spPr>
          <a:xfrm>
            <a:off x="6647040" y="178272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直接箭头连接符 2" descr=""/>
          <p:cNvPicPr/>
          <p:nvPr/>
        </p:nvPicPr>
        <p:blipFill>
          <a:blip r:embed="rId5"/>
          <a:stretch/>
        </p:blipFill>
        <p:spPr>
          <a:xfrm>
            <a:off x="7394400" y="1395360"/>
            <a:ext cx="6526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30720"/>
          <p:cNvSpPr/>
          <p:nvPr/>
        </p:nvSpPr>
        <p:spPr>
          <a:xfrm>
            <a:off x="163440" y="442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0724"/>
          <p:cNvSpPr/>
          <p:nvPr/>
        </p:nvSpPr>
        <p:spPr>
          <a:xfrm>
            <a:off x="6889680" y="3273480"/>
            <a:ext cx="304920" cy="3078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1"/>
          <p:cNvSpPr/>
          <p:nvPr/>
        </p:nvSpPr>
        <p:spPr>
          <a:xfrm>
            <a:off x="1120680" y="660240"/>
            <a:ext cx="6813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我的实习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我的实习生”功能菜单，进入已参与实习学生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实习过程统计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日志、批阅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3" descr=""/>
          <p:cNvPicPr/>
          <p:nvPr/>
        </p:nvPicPr>
        <p:blipFill>
          <a:blip r:embed="rId1"/>
          <a:stretch/>
        </p:blipFill>
        <p:spPr>
          <a:xfrm>
            <a:off x="347760" y="636480"/>
            <a:ext cx="8450280" cy="3589560"/>
          </a:xfrm>
          <a:prstGeom prst="rect">
            <a:avLst/>
          </a:prstGeom>
          <a:ln w="0">
            <a:noFill/>
          </a:ln>
        </p:spPr>
      </p:pic>
      <p:sp>
        <p:nvSpPr>
          <p:cNvPr id="730" name="矩形 59407"/>
          <p:cNvSpPr/>
          <p:nvPr/>
        </p:nvSpPr>
        <p:spPr>
          <a:xfrm>
            <a:off x="150840" y="9000"/>
            <a:ext cx="36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0"/>
          <p:cNvSpPr/>
          <p:nvPr/>
        </p:nvSpPr>
        <p:spPr>
          <a:xfrm>
            <a:off x="1514520" y="1492200"/>
            <a:ext cx="281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实习过程统计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*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只显示已参与实习的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40"/>
          <p:cNvSpPr/>
          <p:nvPr/>
        </p:nvSpPr>
        <p:spPr>
          <a:xfrm>
            <a:off x="3355920" y="1012680"/>
            <a:ext cx="19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学生参与情况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*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显示所有的实习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 160"/>
          <p:cNvSpPr/>
          <p:nvPr/>
        </p:nvSpPr>
        <p:spPr>
          <a:xfrm rot="13320000">
            <a:off x="1946160" y="1236600"/>
            <a:ext cx="557280" cy="1684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 160"/>
          <p:cNvSpPr/>
          <p:nvPr/>
        </p:nvSpPr>
        <p:spPr>
          <a:xfrm rot="13320000">
            <a:off x="2813040" y="1066320"/>
            <a:ext cx="557280" cy="1666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40"/>
          <p:cNvSpPr/>
          <p:nvPr/>
        </p:nvSpPr>
        <p:spPr>
          <a:xfrm>
            <a:off x="6283440" y="1295280"/>
            <a:ext cx="19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详情进入，可具体查看日志、批阅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师端小程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59407"/>
          <p:cNvSpPr/>
          <p:nvPr/>
        </p:nvSpPr>
        <p:spPr>
          <a:xfrm>
            <a:off x="104760" y="1620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小程序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台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图片 -2147482609" descr=""/>
          <p:cNvPicPr/>
          <p:nvPr/>
        </p:nvPicPr>
        <p:blipFill>
          <a:blip r:embed="rId1"/>
          <a:stretch/>
        </p:blipFill>
        <p:spPr>
          <a:xfrm>
            <a:off x="198360" y="579600"/>
            <a:ext cx="6905880" cy="373824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5"/>
          <p:cNvSpPr/>
          <p:nvPr/>
        </p:nvSpPr>
        <p:spPr>
          <a:xfrm>
            <a:off x="7227720" y="1087560"/>
            <a:ext cx="171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点击“工作台”→点击“过程管理”→“周日志批阅”→查看学生日志内容或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点击待办事项下方的周日志批阅，进行打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59407"/>
          <p:cNvSpPr/>
          <p:nvPr/>
        </p:nvSpPr>
        <p:spPr>
          <a:xfrm>
            <a:off x="104760" y="1620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小程序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台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"/>
          <p:cNvSpPr/>
          <p:nvPr/>
        </p:nvSpPr>
        <p:spPr>
          <a:xfrm>
            <a:off x="6838920" y="60012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点击“工作台”→点击“过程管理”→“报告批阅”→查看学生报告内容→点击“审批通过”或“退回修改”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或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点击待办事项下的报告批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说明：第三张图的界面上方可以切换报告的批阅状态，查看已批阅、退回、无需批阅等状态的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图片 -2147482608" descr=""/>
          <p:cNvPicPr/>
          <p:nvPr/>
        </p:nvPicPr>
        <p:blipFill>
          <a:blip r:embed="rId1"/>
          <a:stretch/>
        </p:blipFill>
        <p:spPr>
          <a:xfrm>
            <a:off x="104760" y="600120"/>
            <a:ext cx="6840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矩形 75776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电话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79-8272206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75797217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1048075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矩形 75777" descr=""/>
          <p:cNvPicPr/>
          <p:nvPr/>
        </p:nvPicPr>
        <p:blipFill>
          <a:blip r:embed="rId1"/>
          <a:stretch/>
        </p:blipFill>
        <p:spPr>
          <a:xfrm>
            <a:off x="6059520" y="2120760"/>
            <a:ext cx="1365120" cy="68292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75778"/>
          <p:cNvGrpSpPr/>
          <p:nvPr/>
        </p:nvGrpSpPr>
        <p:grpSpPr>
          <a:xfrm>
            <a:off x="223920" y="351000"/>
            <a:ext cx="6562800" cy="4422600"/>
            <a:chOff x="223920" y="351000"/>
            <a:chExt cx="6562800" cy="4422600"/>
          </a:xfrm>
        </p:grpSpPr>
        <p:sp>
          <p:nvSpPr>
            <p:cNvPr id="750" name="任意多边形 75779"/>
            <p:cNvSpPr/>
            <p:nvPr/>
          </p:nvSpPr>
          <p:spPr>
            <a:xfrm>
              <a:off x="223920" y="351000"/>
              <a:ext cx="6562800" cy="4422600"/>
            </a:xfrm>
            <a:custGeom>
              <a:avLst/>
              <a:gdLst>
                <a:gd name="textAreaLeft" fmla="*/ 0 w 6562800"/>
                <a:gd name="textAreaRight" fmla="*/ 6563160 w 6562800"/>
                <a:gd name="textAreaTop" fmla="*/ 0 h 4422600"/>
                <a:gd name="textAreaBottom" fmla="*/ 4422600 h 44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75780"/>
            <p:cNvSpPr/>
            <p:nvPr/>
          </p:nvSpPr>
          <p:spPr>
            <a:xfrm>
              <a:off x="223920" y="242424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任意多边形 8196"/>
          <p:cNvSpPr/>
          <p:nvPr/>
        </p:nvSpPr>
        <p:spPr>
          <a:xfrm>
            <a:off x="315756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可绑定手机或者邮箱，并重设密码。绑定手机或者邮箱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1" descr=""/>
          <p:cNvPicPr/>
          <p:nvPr/>
        </p:nvPicPr>
        <p:blipFill>
          <a:blip r:embed="rId1"/>
          <a:stretch/>
        </p:blipFill>
        <p:spPr>
          <a:xfrm>
            <a:off x="3381480" y="2700360"/>
            <a:ext cx="5514840" cy="2255760"/>
          </a:xfrm>
          <a:prstGeom prst="rect">
            <a:avLst/>
          </a:prstGeom>
          <a:ln w="0">
            <a:noFill/>
          </a:ln>
        </p:spPr>
      </p:pic>
      <p:sp>
        <p:nvSpPr>
          <p:cNvPr id="666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文本框 2" descr=""/>
          <p:cNvPicPr/>
          <p:nvPr/>
        </p:nvPicPr>
        <p:blipFill>
          <a:blip r:embed="rId2"/>
          <a:stretch/>
        </p:blipFill>
        <p:spPr>
          <a:xfrm>
            <a:off x="165240" y="1798560"/>
            <a:ext cx="4930560" cy="2766960"/>
          </a:xfrm>
          <a:prstGeom prst="rect">
            <a:avLst/>
          </a:prstGeom>
          <a:ln w="0">
            <a:noFill/>
          </a:ln>
        </p:spPr>
      </p:pic>
      <p:pic>
        <p:nvPicPr>
          <p:cNvPr id="668" name="直接箭头连接符 5" descr=""/>
          <p:cNvPicPr/>
          <p:nvPr/>
        </p:nvPicPr>
        <p:blipFill>
          <a:blip r:embed="rId3"/>
          <a:stretch/>
        </p:blipFill>
        <p:spPr>
          <a:xfrm>
            <a:off x="4194000" y="3206880"/>
            <a:ext cx="676440" cy="506160"/>
          </a:xfrm>
          <a:prstGeom prst="rect">
            <a:avLst/>
          </a:prstGeom>
          <a:ln w="0">
            <a:noFill/>
          </a:ln>
        </p:spPr>
      </p:pic>
      <p:grpSp>
        <p:nvGrpSpPr>
          <p:cNvPr id="669" name="文本框 6"/>
          <p:cNvGrpSpPr/>
          <p:nvPr/>
        </p:nvGrpSpPr>
        <p:grpSpPr>
          <a:xfrm>
            <a:off x="1158840" y="2835360"/>
            <a:ext cx="4151520" cy="2517840"/>
            <a:chOff x="1158840" y="2835360"/>
            <a:chExt cx="4151520" cy="2517840"/>
          </a:xfrm>
        </p:grpSpPr>
        <p:pic>
          <p:nvPicPr>
            <p:cNvPr id="670" name="文本框 6" descr=""/>
            <p:cNvPicPr/>
            <p:nvPr/>
          </p:nvPicPr>
          <p:blipFill>
            <a:blip r:embed="rId4"/>
            <a:stretch/>
          </p:blipFill>
          <p:spPr>
            <a:xfrm>
              <a:off x="1158840" y="2835360"/>
              <a:ext cx="41515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247840" y="392256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df0024"/>
                  </a:solidFill>
                  <a:latin typeface="微软雅黑"/>
                  <a:ea typeface="微软雅黑"/>
                </a:rPr>
                <a:t>3</a:t>
              </a:r>
              <a:r>
                <a:rPr b="1" sz="1600" spc="-1" strike="noStrike">
                  <a:solidFill>
                    <a:srgbClr val="df0024"/>
                  </a:solidFill>
                  <a:latin typeface="微软雅黑"/>
                  <a:ea typeface="微软雅黑"/>
                </a:rPr>
                <a:t>，输入账号和密码</a:t>
              </a: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2" name="直接箭头连接符 7" descr=""/>
          <p:cNvPicPr/>
          <p:nvPr/>
        </p:nvPicPr>
        <p:blipFill>
          <a:blip r:embed="rId5"/>
          <a:stretch/>
        </p:blipFill>
        <p:spPr>
          <a:xfrm>
            <a:off x="4206960" y="3743280"/>
            <a:ext cx="646200" cy="46836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3" descr=""/>
          <p:cNvPicPr/>
          <p:nvPr/>
        </p:nvPicPr>
        <p:blipFill>
          <a:blip r:embed="rId6"/>
          <a:stretch/>
        </p:blipFill>
        <p:spPr>
          <a:xfrm>
            <a:off x="316080" y="457200"/>
            <a:ext cx="6615000" cy="212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4" name="文本框 4" descr=""/>
          <p:cNvPicPr/>
          <p:nvPr/>
        </p:nvPicPr>
        <p:blipFill>
          <a:blip r:embed="rId7"/>
          <a:stretch/>
        </p:blipFill>
        <p:spPr>
          <a:xfrm>
            <a:off x="5145120" y="19080"/>
            <a:ext cx="4370400" cy="2516040"/>
          </a:xfrm>
          <a:prstGeom prst="rect">
            <a:avLst/>
          </a:prstGeom>
          <a:ln w="0">
            <a:noFill/>
          </a:ln>
        </p:spPr>
      </p:pic>
      <p:pic>
        <p:nvPicPr>
          <p:cNvPr id="675" name="直接箭头连接符 8" descr=""/>
          <p:cNvPicPr/>
          <p:nvPr/>
        </p:nvPicPr>
        <p:blipFill>
          <a:blip r:embed="rId8"/>
          <a:stretch/>
        </p:blipFill>
        <p:spPr>
          <a:xfrm>
            <a:off x="5357880" y="493560"/>
            <a:ext cx="927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3000" y="841320"/>
            <a:ext cx="68580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Calibri"/>
              </a:rPr>
              <a:t>登录指南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4500" spc="-1" strike="noStrike">
                <a:solidFill>
                  <a:srgbClr val="000000"/>
                </a:solidFill>
                <a:latin typeface="Calibri"/>
              </a:rPr>
              <a:t>微信小程序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"/>
          <p:cNvSpPr/>
          <p:nvPr/>
        </p:nvSpPr>
        <p:spPr>
          <a:xfrm>
            <a:off x="0" y="533520"/>
            <a:ext cx="46036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文鼎中楷体"/>
                <a:ea typeface="文鼎中楷体"/>
              </a:rPr>
              <a:t>关注教师端小程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微信扫描下方二维码关注校友邦教师端公众号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点击实践管理→工作台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6"/>
          <p:cNvSpPr/>
          <p:nvPr/>
        </p:nvSpPr>
        <p:spPr>
          <a:xfrm>
            <a:off x="4708440" y="343080"/>
            <a:ext cx="429912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文鼎中楷体"/>
                <a:ea typeface="文鼎中楷体"/>
              </a:rPr>
              <a:t>小程序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输入学校、账号、密码进行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在下方我的→设置里可以退出登录，切换账号或修改密码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教师账号统一生成，无需自行注册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图片 7" descr=""/>
          <p:cNvPicPr/>
          <p:nvPr/>
        </p:nvPicPr>
        <p:blipFill>
          <a:blip r:embed="rId1"/>
          <a:stretch/>
        </p:blipFill>
        <p:spPr>
          <a:xfrm>
            <a:off x="5037120" y="2139840"/>
            <a:ext cx="1862280" cy="2700360"/>
          </a:xfrm>
          <a:prstGeom prst="rect">
            <a:avLst/>
          </a:prstGeom>
          <a:ln w="0">
            <a:noFill/>
          </a:ln>
        </p:spPr>
      </p:pic>
      <p:pic>
        <p:nvPicPr>
          <p:cNvPr id="680" name="图片 4" descr=""/>
          <p:cNvPicPr/>
          <p:nvPr/>
        </p:nvPicPr>
        <p:blipFill>
          <a:blip r:embed="rId2"/>
          <a:stretch/>
        </p:blipFill>
        <p:spPr>
          <a:xfrm>
            <a:off x="69840" y="2057400"/>
            <a:ext cx="2355840" cy="2355840"/>
          </a:xfrm>
          <a:prstGeom prst="rect">
            <a:avLst/>
          </a:prstGeom>
          <a:ln w="0">
            <a:noFill/>
          </a:ln>
        </p:spPr>
      </p:pic>
      <p:pic>
        <p:nvPicPr>
          <p:cNvPr id="681" name="图片 5" descr=""/>
          <p:cNvPicPr/>
          <p:nvPr/>
        </p:nvPicPr>
        <p:blipFill>
          <a:blip r:embed="rId3"/>
          <a:stretch/>
        </p:blipFill>
        <p:spPr>
          <a:xfrm>
            <a:off x="2425680" y="2066760"/>
            <a:ext cx="2432160" cy="234648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8" descr=""/>
          <p:cNvPicPr/>
          <p:nvPr/>
        </p:nvPicPr>
        <p:blipFill>
          <a:blip r:embed="rId4"/>
          <a:stretch/>
        </p:blipFill>
        <p:spPr>
          <a:xfrm>
            <a:off x="6948360" y="2139840"/>
            <a:ext cx="19018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29696"/>
          <p:cNvSpPr/>
          <p:nvPr/>
        </p:nvSpPr>
        <p:spPr>
          <a:xfrm>
            <a:off x="166680" y="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查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1"/>
          <p:cNvSpPr/>
          <p:nvPr/>
        </p:nvSpPr>
        <p:spPr>
          <a:xfrm>
            <a:off x="1787400" y="1135080"/>
            <a:ext cx="581364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日志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周日志批阅”，批阅学生提交的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收藏或导出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2" descr=""/>
          <p:cNvPicPr/>
          <p:nvPr/>
        </p:nvPicPr>
        <p:blipFill>
          <a:blip r:embed="rId1"/>
          <a:stretch/>
        </p:blipFill>
        <p:spPr>
          <a:xfrm>
            <a:off x="55440" y="345960"/>
            <a:ext cx="9033120" cy="4453200"/>
          </a:xfrm>
          <a:prstGeom prst="rect">
            <a:avLst/>
          </a:prstGeom>
          <a:ln w="0">
            <a:noFill/>
          </a:ln>
        </p:spPr>
      </p:pic>
      <p:sp>
        <p:nvSpPr>
          <p:cNvPr id="691" name="矩形 29696"/>
          <p:cNvSpPr/>
          <p:nvPr/>
        </p:nvSpPr>
        <p:spPr>
          <a:xfrm>
            <a:off x="166680" y="0"/>
            <a:ext cx="40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文本框 6" descr=""/>
          <p:cNvPicPr/>
          <p:nvPr/>
        </p:nvPicPr>
        <p:blipFill>
          <a:blip r:embed="rId2"/>
          <a:stretch/>
        </p:blipFill>
        <p:spPr>
          <a:xfrm>
            <a:off x="-66600" y="450720"/>
            <a:ext cx="5162400" cy="2517840"/>
          </a:xfrm>
          <a:prstGeom prst="rect">
            <a:avLst/>
          </a:prstGeom>
          <a:ln w="0">
            <a:noFill/>
          </a:ln>
        </p:spPr>
      </p:pic>
      <p:pic>
        <p:nvPicPr>
          <p:cNvPr id="693" name="直接箭头连接符 7" descr=""/>
          <p:cNvPicPr/>
          <p:nvPr/>
        </p:nvPicPr>
        <p:blipFill>
          <a:blip r:embed="rId3"/>
          <a:stretch/>
        </p:blipFill>
        <p:spPr>
          <a:xfrm>
            <a:off x="176040" y="914400"/>
            <a:ext cx="866880" cy="517680"/>
          </a:xfrm>
          <a:prstGeom prst="rect">
            <a:avLst/>
          </a:prstGeom>
          <a:ln w="0">
            <a:noFill/>
          </a:ln>
        </p:spPr>
      </p:pic>
      <p:pic>
        <p:nvPicPr>
          <p:cNvPr id="694" name="文本框 4" descr=""/>
          <p:cNvPicPr/>
          <p:nvPr/>
        </p:nvPicPr>
        <p:blipFill>
          <a:blip r:embed="rId4"/>
          <a:stretch/>
        </p:blipFill>
        <p:spPr>
          <a:xfrm>
            <a:off x="212760" y="1238400"/>
            <a:ext cx="5529240" cy="2516040"/>
          </a:xfrm>
          <a:prstGeom prst="rect">
            <a:avLst/>
          </a:prstGeom>
          <a:ln w="0">
            <a:noFill/>
          </a:ln>
        </p:spPr>
      </p:pic>
      <p:pic>
        <p:nvPicPr>
          <p:cNvPr id="695" name="直接箭头连接符 5" descr=""/>
          <p:cNvPicPr/>
          <p:nvPr/>
        </p:nvPicPr>
        <p:blipFill>
          <a:blip r:embed="rId5"/>
          <a:stretch/>
        </p:blipFill>
        <p:spPr>
          <a:xfrm>
            <a:off x="841320" y="2146320"/>
            <a:ext cx="639720" cy="577800"/>
          </a:xfrm>
          <a:prstGeom prst="rect">
            <a:avLst/>
          </a:prstGeom>
          <a:ln w="0">
            <a:noFill/>
          </a:ln>
        </p:spPr>
      </p:pic>
      <p:pic>
        <p:nvPicPr>
          <p:cNvPr id="696" name="文本框 8" descr=""/>
          <p:cNvPicPr/>
          <p:nvPr/>
        </p:nvPicPr>
        <p:blipFill>
          <a:blip r:embed="rId6"/>
          <a:stretch/>
        </p:blipFill>
        <p:spPr>
          <a:xfrm>
            <a:off x="1852560" y="2023920"/>
            <a:ext cx="5529240" cy="2524320"/>
          </a:xfrm>
          <a:prstGeom prst="rect">
            <a:avLst/>
          </a:prstGeom>
          <a:ln w="0">
            <a:noFill/>
          </a:ln>
        </p:spPr>
      </p:pic>
      <p:pic>
        <p:nvPicPr>
          <p:cNvPr id="697" name="直接箭头连接符 9" descr=""/>
          <p:cNvPicPr/>
          <p:nvPr/>
        </p:nvPicPr>
        <p:blipFill>
          <a:blip r:embed="rId7"/>
          <a:stretch/>
        </p:blipFill>
        <p:spPr>
          <a:xfrm>
            <a:off x="2292480" y="2932200"/>
            <a:ext cx="669960" cy="469800"/>
          </a:xfrm>
          <a:prstGeom prst="rect">
            <a:avLst/>
          </a:prstGeom>
          <a:ln w="0">
            <a:noFill/>
          </a:ln>
        </p:spPr>
      </p:pic>
      <p:pic>
        <p:nvPicPr>
          <p:cNvPr id="698" name="文本框 12" descr=""/>
          <p:cNvPicPr/>
          <p:nvPr/>
        </p:nvPicPr>
        <p:blipFill>
          <a:blip r:embed="rId8"/>
          <a:stretch/>
        </p:blipFill>
        <p:spPr>
          <a:xfrm>
            <a:off x="5857920" y="2023920"/>
            <a:ext cx="3346560" cy="3017880"/>
          </a:xfrm>
          <a:prstGeom prst="rect">
            <a:avLst/>
          </a:prstGeom>
          <a:ln w="0">
            <a:noFill/>
          </a:ln>
        </p:spPr>
      </p:pic>
      <p:pic>
        <p:nvPicPr>
          <p:cNvPr id="699" name="直接箭头连接符 13" descr=""/>
          <p:cNvPicPr/>
          <p:nvPr/>
        </p:nvPicPr>
        <p:blipFill>
          <a:blip r:embed="rId9"/>
          <a:stretch/>
        </p:blipFill>
        <p:spPr>
          <a:xfrm>
            <a:off x="7358040" y="2646360"/>
            <a:ext cx="365040" cy="493560"/>
          </a:xfrm>
          <a:prstGeom prst="rect">
            <a:avLst/>
          </a:prstGeom>
          <a:ln w="0">
            <a:noFill/>
          </a:ln>
        </p:spPr>
      </p:pic>
      <p:pic>
        <p:nvPicPr>
          <p:cNvPr id="700" name="直接箭头连接符 3" descr=""/>
          <p:cNvPicPr/>
          <p:nvPr/>
        </p:nvPicPr>
        <p:blipFill>
          <a:blip r:embed="rId10"/>
          <a:stretch/>
        </p:blipFill>
        <p:spPr>
          <a:xfrm>
            <a:off x="7686720" y="1262160"/>
            <a:ext cx="639720" cy="542880"/>
          </a:xfrm>
          <a:prstGeom prst="rect">
            <a:avLst/>
          </a:prstGeom>
          <a:ln w="0">
            <a:noFill/>
          </a:ln>
        </p:spPr>
      </p:pic>
      <p:sp>
        <p:nvSpPr>
          <p:cNvPr id="701" name="文本框 14"/>
          <p:cNvSpPr/>
          <p:nvPr/>
        </p:nvSpPr>
        <p:spPr>
          <a:xfrm>
            <a:off x="6627600" y="178272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6.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文本框 7"/>
          <p:cNvSpPr/>
          <p:nvPr/>
        </p:nvSpPr>
        <p:spPr>
          <a:xfrm>
            <a:off x="196920" y="-468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1"/>
          <p:cNvSpPr/>
          <p:nvPr/>
        </p:nvSpPr>
        <p:spPr>
          <a:xfrm>
            <a:off x="1120680" y="660240"/>
            <a:ext cx="68137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习报告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报告批阅”，查看学生提交的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待批阅的学生姓名，查看实习报告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阅实习报告，评分、填写评语，或者退回修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00Z</dcterms:created>
  <dc:creator>Administrator</dc:creator>
  <dc:description/>
  <dc:language>en-US</dc:language>
  <cp:lastModifiedBy>Administrator</cp:lastModifiedBy>
  <dcterms:modified xsi:type="dcterms:W3CDTF">2022-05-20T02:12:16Z</dcterms:modified>
  <cp:revision>3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1FC46A7EA804D25A096638ED9716D0A</vt:lpwstr>
  </property>
  <property fmtid="{D5CDD505-2E9C-101B-9397-08002B2CF9AE}" pid="3" name="KSOProductBuildVer">
    <vt:lpwstr>2052-11.1.0.11691</vt:lpwstr>
  </property>
</Properties>
</file>